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2C2-3502-44BA-87A3-FB509C3C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605-24B1-4906-A5DA-1320AB9F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C25-84C0-4FE0-9D22-4D491C3C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1E7-DB73-4BEB-9E34-E48924CB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C670-B598-4836-9F59-1D6763EE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5B07-E8A6-4868-B903-A6A7F07A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9AF4-63E7-4BFD-A8AA-4ADAA7D8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5807-BF54-4742-BD31-BAA0285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2429-D436-4FBD-B321-7676CECE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279F-0022-4900-9D98-41E6B158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C509-FD3B-494A-8DC4-4307D13C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BAE-CAE6-4643-9A10-5DD2BD7F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2516-CE09-443B-9822-B4EEB84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A70B-4DE4-4C9C-B088-1F08DD1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B083-2AA3-4147-BA47-5CB1BD5A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B3A0-F593-4B63-8D9D-960EA45C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A1B1-2F76-454E-A8F5-6E11DB72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8AF-7DE9-42FB-96C8-DF450E60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06F-CD79-4D27-B45F-2DF88CBB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48B-DAFF-4177-B620-8515E6A6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9B6A-A765-4167-9B85-21DCBDC1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A44-5E1F-405A-8F0E-33644A27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D2F-9A2E-4DE1-9669-E84A9D57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FEE-828C-46FE-9DBE-A27B5363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A0FD-CDDA-418D-8E3E-22D47A02FF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3042-4604-455C-8ABC-AD8A085157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Notes: Cell Structure and Function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2640" y="2666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nit: Cell Structure and Fun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tochondr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523880"/>
            <a:ext cx="7696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“Powerhouse” of the ce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membrance organel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attered throughout the cell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duction of ATP (energy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ough the proces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ular respir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533520" y="548640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1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1" y="20200"/>
                </a:lnTo>
                <a:lnTo>
                  <a:pt x="33691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1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6172200" y="58672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7620120" y="4876920"/>
            <a:ext cx="1218960" cy="76176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58" h="21600">
                <a:moveTo>
                  <a:pt x="0" y="0"/>
                </a:moveTo>
                <a:lnTo>
                  <a:pt x="34558" y="0"/>
                </a:lnTo>
                <a:lnTo>
                  <a:pt x="34558" y="21600"/>
                </a:lnTo>
                <a:lnTo>
                  <a:pt x="0" y="21600"/>
                </a:lnTo>
                <a:close/>
              </a:path>
              <a:path fill="lightenLess" w="34558" h="21600">
                <a:moveTo>
                  <a:pt x="0" y="0"/>
                </a:moveTo>
                <a:lnTo>
                  <a:pt x="34558" y="0"/>
                </a:lnTo>
                <a:lnTo>
                  <a:pt x="33158" y="1400"/>
                </a:lnTo>
                <a:lnTo>
                  <a:pt x="1400" y="1400"/>
                </a:lnTo>
                <a:close/>
              </a:path>
              <a:path fill="darken" w="34558" h="21600">
                <a:moveTo>
                  <a:pt x="34558" y="0"/>
                </a:moveTo>
                <a:lnTo>
                  <a:pt x="34558" y="21600"/>
                </a:lnTo>
                <a:lnTo>
                  <a:pt x="33158" y="20200"/>
                </a:lnTo>
                <a:lnTo>
                  <a:pt x="33158" y="1400"/>
                </a:lnTo>
                <a:close/>
              </a:path>
              <a:path fill="darkenLess" w="34558" h="21600">
                <a:moveTo>
                  <a:pt x="34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8" y="20200"/>
                </a:lnTo>
                <a:close/>
              </a:path>
              <a:path fill="lighten" w="34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lgi Bodi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523880"/>
            <a:ext cx="7696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Stacks of membra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receive lipids and protei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the ER and distributes th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other organelles or outside of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129528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4267080" y="57150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7315200" y="57913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ysosom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523880"/>
            <a:ext cx="7696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Tiny spherical organel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contain digestive enzym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eat food particles, foreig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teria, and broken down par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129528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4114800" y="57150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7238880" y="57150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cuole(s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523880"/>
            <a:ext cx="7696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Storage of enzym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, and waste products. 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 close to 90% of a plant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1295280" y="55627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4191120" y="556272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55627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loroplas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5238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Contains the gr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gment – Chlorophyll to abso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nlight for photosynthe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1219320" y="548640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1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1" y="20200"/>
                </a:lnTo>
                <a:lnTo>
                  <a:pt x="33691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1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3886200" y="5410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6781680" y="54100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toskelet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52388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Protein tubules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aments throughout the cell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 framework (shape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) of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1219320" y="54100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541008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53341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Wa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523880"/>
            <a:ext cx="7696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Long chains of rigi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ulose for the strengthening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lant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1143000" y="54864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33412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257800"/>
            <a:ext cx="1218960" cy="76212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42" h="21600">
                <a:moveTo>
                  <a:pt x="0" y="0"/>
                </a:moveTo>
                <a:lnTo>
                  <a:pt x="34542" y="0"/>
                </a:lnTo>
                <a:lnTo>
                  <a:pt x="34542" y="21600"/>
                </a:lnTo>
                <a:lnTo>
                  <a:pt x="0" y="21600"/>
                </a:lnTo>
                <a:close/>
              </a:path>
              <a:path fill="lightenLess" w="34542" h="21600">
                <a:moveTo>
                  <a:pt x="0" y="0"/>
                </a:moveTo>
                <a:lnTo>
                  <a:pt x="34542" y="0"/>
                </a:lnTo>
                <a:lnTo>
                  <a:pt x="33142" y="1400"/>
                </a:lnTo>
                <a:lnTo>
                  <a:pt x="1400" y="1400"/>
                </a:lnTo>
                <a:close/>
              </a:path>
              <a:path fill="darken" w="34542" h="21600">
                <a:moveTo>
                  <a:pt x="34542" y="0"/>
                </a:moveTo>
                <a:lnTo>
                  <a:pt x="34542" y="21600"/>
                </a:lnTo>
                <a:lnTo>
                  <a:pt x="33142" y="20200"/>
                </a:lnTo>
                <a:lnTo>
                  <a:pt x="33142" y="1400"/>
                </a:lnTo>
                <a:close/>
              </a:path>
              <a:path fill="darkenLess" w="34542" h="21600">
                <a:moveTo>
                  <a:pt x="3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2" y="20200"/>
                </a:lnTo>
                <a:close/>
              </a:path>
              <a:path fill="lighten" w="3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2286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 (Plasma) Membran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523880"/>
            <a:ext cx="7696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Lipid bilayer t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es the cell from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side environment.  Provid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ibility and support.  Keeps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molecules but lets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lecules in or 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380880" y="55627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56386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5562720"/>
            <a:ext cx="1218960" cy="76176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58" h="21600">
                <a:moveTo>
                  <a:pt x="0" y="0"/>
                </a:moveTo>
                <a:lnTo>
                  <a:pt x="34558" y="0"/>
                </a:lnTo>
                <a:lnTo>
                  <a:pt x="34558" y="21600"/>
                </a:lnTo>
                <a:lnTo>
                  <a:pt x="0" y="21600"/>
                </a:lnTo>
                <a:close/>
              </a:path>
              <a:path fill="lightenLess" w="34558" h="21600">
                <a:moveTo>
                  <a:pt x="0" y="0"/>
                </a:moveTo>
                <a:lnTo>
                  <a:pt x="34558" y="0"/>
                </a:lnTo>
                <a:lnTo>
                  <a:pt x="33158" y="1400"/>
                </a:lnTo>
                <a:lnTo>
                  <a:pt x="1400" y="1400"/>
                </a:lnTo>
                <a:close/>
              </a:path>
              <a:path fill="darken" w="34558" h="21600">
                <a:moveTo>
                  <a:pt x="34558" y="0"/>
                </a:moveTo>
                <a:lnTo>
                  <a:pt x="34558" y="21600"/>
                </a:lnTo>
                <a:lnTo>
                  <a:pt x="33158" y="20200"/>
                </a:lnTo>
                <a:lnTo>
                  <a:pt x="33158" y="1400"/>
                </a:lnTo>
                <a:close/>
              </a:path>
              <a:path fill="darkenLess" w="34558" h="21600">
                <a:moveTo>
                  <a:pt x="34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8" y="20200"/>
                </a:lnTo>
                <a:close/>
              </a:path>
              <a:path fill="lighten" w="34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io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15238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Microtubules that migr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opposite poles of the cell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ist in cell divi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1752480" y="54100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54100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54100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l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52388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Short, numerous, hair-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ions out of the ce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lasma) membrane to aid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o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1219320" y="54100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533412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578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343400" cy="376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41432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agell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1523880"/>
            <a:ext cx="7696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Longer, whip-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s to aid in locomotio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s typically only have 1 or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1219320" y="525780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1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1" y="20200"/>
                </a:lnTo>
                <a:lnTo>
                  <a:pt x="33691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1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52578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52578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876560" cy="5257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0880" y="4800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loropl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5257800" cy="3733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38080" y="47242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olgi 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66680" y="41148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ysos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753000" y="1523880"/>
            <a:ext cx="4095720" cy="3581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14400" y="403848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ll (plasma)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5181480" cy="3200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44197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971800" y="990720"/>
            <a:ext cx="4114800" cy="3886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14400" y="480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ucl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10552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9480" y="434340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ough Endoplasmic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105520" cy="380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049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ibosomes on the Rough Endoplasmic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124080" y="914400"/>
            <a:ext cx="4210200" cy="4419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880" y="44197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mooth Endoplasmic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u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523880"/>
            <a:ext cx="7696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Directs and manages a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activities, since it contai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NA, the cellular genet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1143000" y="56386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4191120" y="563868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7238880" y="55627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0948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cu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84400" y="609480"/>
            <a:ext cx="4940280" cy="4445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3809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381480" y="106668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" y="39625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4000680" cy="5033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04920" y="3809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lag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619440" y="685800"/>
            <a:ext cx="3924360" cy="4191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62120" y="3962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entri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6338880" cy="4496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49528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romatin and Chromos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4876920" cy="4724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85800" y="5562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74674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541044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54100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867040" y="762120"/>
            <a:ext cx="4753080" cy="4572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57200" y="5257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ucleo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>
            <a:off x="7315200" y="54864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76520" y="2209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Eukaryot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7086600" y="5410080"/>
            <a:ext cx="1523880" cy="106704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0845" h="21600">
                <a:moveTo>
                  <a:pt x="0" y="0"/>
                </a:moveTo>
                <a:lnTo>
                  <a:pt x="30845" y="0"/>
                </a:lnTo>
                <a:lnTo>
                  <a:pt x="30845" y="21600"/>
                </a:lnTo>
                <a:lnTo>
                  <a:pt x="0" y="21600"/>
                </a:lnTo>
                <a:close/>
              </a:path>
              <a:path fill="lightenLess" w="30845" h="21600">
                <a:moveTo>
                  <a:pt x="0" y="0"/>
                </a:moveTo>
                <a:lnTo>
                  <a:pt x="30845" y="0"/>
                </a:lnTo>
                <a:lnTo>
                  <a:pt x="29445" y="1400"/>
                </a:lnTo>
                <a:lnTo>
                  <a:pt x="1400" y="1400"/>
                </a:lnTo>
                <a:close/>
              </a:path>
              <a:path fill="darken" w="30845" h="21600">
                <a:moveTo>
                  <a:pt x="30845" y="0"/>
                </a:moveTo>
                <a:lnTo>
                  <a:pt x="30845" y="21600"/>
                </a:lnTo>
                <a:lnTo>
                  <a:pt x="29445" y="20200"/>
                </a:lnTo>
                <a:lnTo>
                  <a:pt x="29445" y="1400"/>
                </a:lnTo>
                <a:close/>
              </a:path>
              <a:path fill="darkenLess" w="30845" h="21600">
                <a:moveTo>
                  <a:pt x="30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5" y="20200"/>
                </a:lnTo>
                <a:close/>
              </a:path>
              <a:path fill="lighten" w="30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5" h="21600">
                <a:moveTo>
                  <a:pt x="8416" y="10800"/>
                </a:moveTo>
                <a:lnTo>
                  <a:pt x="22429" y="3794"/>
                </a:lnTo>
                <a:lnTo>
                  <a:pt x="224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olu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523880"/>
            <a:ext cx="7696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Region of the Nucle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produces Ribosomes, whi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involved in prote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nthesis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114300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4114800" y="56386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7315200" y="56386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71600" y="762120"/>
            <a:ext cx="685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Eukaryot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An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Prokaryoti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7086600" y="5410080"/>
            <a:ext cx="1523880" cy="106704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0845" h="21600">
                <a:moveTo>
                  <a:pt x="0" y="0"/>
                </a:moveTo>
                <a:lnTo>
                  <a:pt x="30845" y="0"/>
                </a:lnTo>
                <a:lnTo>
                  <a:pt x="30845" y="21600"/>
                </a:lnTo>
                <a:lnTo>
                  <a:pt x="0" y="21600"/>
                </a:lnTo>
                <a:close/>
              </a:path>
              <a:path fill="lightenLess" w="30845" h="21600">
                <a:moveTo>
                  <a:pt x="0" y="0"/>
                </a:moveTo>
                <a:lnTo>
                  <a:pt x="30845" y="0"/>
                </a:lnTo>
                <a:lnTo>
                  <a:pt x="29445" y="1400"/>
                </a:lnTo>
                <a:lnTo>
                  <a:pt x="1400" y="1400"/>
                </a:lnTo>
                <a:close/>
              </a:path>
              <a:path fill="darken" w="30845" h="21600">
                <a:moveTo>
                  <a:pt x="30845" y="0"/>
                </a:moveTo>
                <a:lnTo>
                  <a:pt x="30845" y="21600"/>
                </a:lnTo>
                <a:lnTo>
                  <a:pt x="29445" y="20200"/>
                </a:lnTo>
                <a:lnTo>
                  <a:pt x="29445" y="1400"/>
                </a:lnTo>
                <a:close/>
              </a:path>
              <a:path fill="darkenLess" w="30845" h="21600">
                <a:moveTo>
                  <a:pt x="30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5" y="20200"/>
                </a:lnTo>
                <a:close/>
              </a:path>
              <a:path fill="lighten" w="30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5" h="21600">
                <a:moveTo>
                  <a:pt x="8416" y="10800"/>
                </a:moveTo>
                <a:lnTo>
                  <a:pt x="22429" y="3794"/>
                </a:lnTo>
                <a:lnTo>
                  <a:pt x="224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295280" y="2133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Animal Cel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7086600" y="5410080"/>
            <a:ext cx="1523880" cy="106704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0845" h="21600">
                <a:moveTo>
                  <a:pt x="0" y="0"/>
                </a:moveTo>
                <a:lnTo>
                  <a:pt x="30845" y="0"/>
                </a:lnTo>
                <a:lnTo>
                  <a:pt x="30845" y="21600"/>
                </a:lnTo>
                <a:lnTo>
                  <a:pt x="0" y="21600"/>
                </a:lnTo>
                <a:close/>
              </a:path>
              <a:path fill="lightenLess" w="30845" h="21600">
                <a:moveTo>
                  <a:pt x="0" y="0"/>
                </a:moveTo>
                <a:lnTo>
                  <a:pt x="30845" y="0"/>
                </a:lnTo>
                <a:lnTo>
                  <a:pt x="29445" y="1400"/>
                </a:lnTo>
                <a:lnTo>
                  <a:pt x="1400" y="1400"/>
                </a:lnTo>
                <a:close/>
              </a:path>
              <a:path fill="darken" w="30845" h="21600">
                <a:moveTo>
                  <a:pt x="30845" y="0"/>
                </a:moveTo>
                <a:lnTo>
                  <a:pt x="30845" y="21600"/>
                </a:lnTo>
                <a:lnTo>
                  <a:pt x="29445" y="20200"/>
                </a:lnTo>
                <a:lnTo>
                  <a:pt x="29445" y="1400"/>
                </a:lnTo>
                <a:close/>
              </a:path>
              <a:path fill="darkenLess" w="30845" h="21600">
                <a:moveTo>
                  <a:pt x="30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5" y="20200"/>
                </a:lnTo>
                <a:close/>
              </a:path>
              <a:path fill="lighten" w="30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5" h="21600">
                <a:moveTo>
                  <a:pt x="8416" y="10800"/>
                </a:moveTo>
                <a:lnTo>
                  <a:pt x="22429" y="3794"/>
                </a:lnTo>
                <a:lnTo>
                  <a:pt x="224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295280" y="2133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Plant Cel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7086600" y="5410080"/>
            <a:ext cx="1523880" cy="106704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0845" h="21600">
                <a:moveTo>
                  <a:pt x="0" y="0"/>
                </a:moveTo>
                <a:lnTo>
                  <a:pt x="30845" y="0"/>
                </a:lnTo>
                <a:lnTo>
                  <a:pt x="30845" y="21600"/>
                </a:lnTo>
                <a:lnTo>
                  <a:pt x="0" y="21600"/>
                </a:lnTo>
                <a:close/>
              </a:path>
              <a:path fill="lightenLess" w="30845" h="21600">
                <a:moveTo>
                  <a:pt x="0" y="0"/>
                </a:moveTo>
                <a:lnTo>
                  <a:pt x="30845" y="0"/>
                </a:lnTo>
                <a:lnTo>
                  <a:pt x="29445" y="1400"/>
                </a:lnTo>
                <a:lnTo>
                  <a:pt x="1400" y="1400"/>
                </a:lnTo>
                <a:close/>
              </a:path>
              <a:path fill="darken" w="30845" h="21600">
                <a:moveTo>
                  <a:pt x="30845" y="0"/>
                </a:moveTo>
                <a:lnTo>
                  <a:pt x="30845" y="21600"/>
                </a:lnTo>
                <a:lnTo>
                  <a:pt x="29445" y="20200"/>
                </a:lnTo>
                <a:lnTo>
                  <a:pt x="29445" y="1400"/>
                </a:lnTo>
                <a:close/>
              </a:path>
              <a:path fill="darkenLess" w="30845" h="21600">
                <a:moveTo>
                  <a:pt x="30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5" y="20200"/>
                </a:lnTo>
                <a:close/>
              </a:path>
              <a:path fill="lighten" w="30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5" h="21600">
                <a:moveTo>
                  <a:pt x="8416" y="10800"/>
                </a:moveTo>
                <a:lnTo>
                  <a:pt x="22429" y="3794"/>
                </a:lnTo>
                <a:lnTo>
                  <a:pt x="224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447920" y="838080"/>
            <a:ext cx="685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Animal Cel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6600ff"/>
                </a:solidFill>
                <a:uFillTx/>
                <a:latin typeface="Verdana"/>
              </a:rPr>
              <a:t>Plant Cel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7086600" y="5410080"/>
            <a:ext cx="1523880" cy="106704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0845" h="21600">
                <a:moveTo>
                  <a:pt x="0" y="0"/>
                </a:moveTo>
                <a:lnTo>
                  <a:pt x="30845" y="0"/>
                </a:lnTo>
                <a:lnTo>
                  <a:pt x="30845" y="21600"/>
                </a:lnTo>
                <a:lnTo>
                  <a:pt x="0" y="21600"/>
                </a:lnTo>
                <a:close/>
              </a:path>
              <a:path fill="lightenLess" w="30845" h="21600">
                <a:moveTo>
                  <a:pt x="0" y="0"/>
                </a:moveTo>
                <a:lnTo>
                  <a:pt x="30845" y="0"/>
                </a:lnTo>
                <a:lnTo>
                  <a:pt x="29445" y="1400"/>
                </a:lnTo>
                <a:lnTo>
                  <a:pt x="1400" y="1400"/>
                </a:lnTo>
                <a:close/>
              </a:path>
              <a:path fill="darken" w="30845" h="21600">
                <a:moveTo>
                  <a:pt x="30845" y="0"/>
                </a:moveTo>
                <a:lnTo>
                  <a:pt x="30845" y="21600"/>
                </a:lnTo>
                <a:lnTo>
                  <a:pt x="29445" y="20200"/>
                </a:lnTo>
                <a:lnTo>
                  <a:pt x="29445" y="1400"/>
                </a:lnTo>
                <a:close/>
              </a:path>
              <a:path fill="darkenLess" w="30845" h="21600">
                <a:moveTo>
                  <a:pt x="30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5" y="20200"/>
                </a:lnTo>
                <a:close/>
              </a:path>
              <a:path fill="lighten" w="30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5" h="21600">
                <a:moveTo>
                  <a:pt x="8416" y="10800"/>
                </a:moveTo>
                <a:lnTo>
                  <a:pt x="22429" y="3794"/>
                </a:lnTo>
                <a:lnTo>
                  <a:pt x="224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286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romatin / Chromosom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523880"/>
            <a:ext cx="7696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Long strands of tang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NA and proteins that ar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ular genetic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1219320" y="56386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4114800" y="556272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7238880" y="55627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toplas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523880"/>
            <a:ext cx="7696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Clear jelly-like fluid con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ining water, salts, and organ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lecules.  Site wher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mbly of proteins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rage takes pl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990720" y="5638680"/>
            <a:ext cx="990360" cy="60984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3670" y="1400"/>
                </a:lnTo>
                <a:lnTo>
                  <a:pt x="1400" y="1400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3670" y="20200"/>
                </a:lnTo>
                <a:lnTo>
                  <a:pt x="33670" y="1400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0" y="20200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3809880" y="56386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7238880" y="56386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ooth Endoplasmic Reticulu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523880"/>
            <a:ext cx="7696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Membrane system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ed sacs and tunnels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ivery of lipids and stor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137160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4114800" y="57150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238880" y="57150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gh Endoplasmic Reticulu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523880"/>
            <a:ext cx="7696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Membrane system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ed sacs and tunnels stu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 ribosomes for deliver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rage of prote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1143000" y="571500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4114800" y="563868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7010280" y="55627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286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bosom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523880"/>
            <a:ext cx="7696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– Located throughout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and on the Endoplasm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ticulum.  Sites where protei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assembl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1066680" y="56386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4038480" y="556272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or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7010280" y="54864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imal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7:09:33Z</dcterms:created>
  <dc:creator>sautrey</dc:creator>
  <dc:description/>
  <dc:language>en-US</dc:language>
  <cp:lastModifiedBy>pc owner</cp:lastModifiedBy>
  <dcterms:modified xsi:type="dcterms:W3CDTF">2008-09-16T15:07:49Z</dcterms:modified>
  <cp:revision>6</cp:revision>
  <dc:subject/>
  <dc:title>Notes: Cell Structure and Function</dc:title>
</cp:coreProperties>
</file>